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F6A-C1F3-4859-8146-9A7A4FA4E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53A5-2429-4095-A23A-3408673C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C1DC-CE4D-49F8-A75F-7188DF39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40B0-FD5A-4AC2-BE83-6A4E2BE6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91F9-1B26-4348-800F-CBEA612D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6D1C-13F9-4007-93D8-15FAF633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EEF4-731A-4B2C-BAD9-7D2BA5D4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8515-98D9-43A2-8AEE-D46F8D8F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856B-A919-41FB-ADAA-08649BE2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0182-9605-460E-99F3-38CDB680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34D1-F2D0-4043-9267-A2998750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C0C8-B9DB-4198-B996-DF750F65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840A-8C77-4CE0-B21C-8594B5D57E57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11 Buď požehnaná hodi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ď požehnaná hodina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kláňam svoje kolen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vzývam Tvorcu mocného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ilu čerpám od ne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k modlitbe sa utieka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okušeniu unik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ď v každom žiali, súžen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útecha mi pram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vzácna chvíľa modlitieb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teba milšej, drahšej nie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chválim Otca na neb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pozná moje potreb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otvorenú náruč m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láskavo ma prijím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o všetkým sa mu zveruje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 prosbe bližšie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nemu ľn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teba, chvíľa prosieb, má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Duch Božím viesť sa d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miem požehnanie prijím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 Pánovi sa rad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ič viac si nad to necení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zhovárať sa môžem s ní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rúcne za to ďakuje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jeho sľubom veriť smie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3T14:13:48Z</dcterms:modified>
  <cp:revision>14</cp:revision>
  <dc:subject/>
  <dc:title>Je veľký náš Pán, on slávy je Kráľ Nech do všetkých strán  spev vrúcnych znie chvál.</dc:title>
</cp:coreProperties>
</file>